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7CC-2F4B-428D-9F94-08D4B419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1F3-418B-4126-A649-01EC0BA4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B72-2A2E-495A-9439-33BE66FD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7C6-0CB2-4D64-8DED-FF444A55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E94-5933-4BA6-A9F7-BF53C9BB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1FF-6D7C-4941-AC52-58AAFA96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0C6-AE98-421E-A124-85D6CD3A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450-92DB-4206-AC77-C6338851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6C6-7F34-4189-B7A6-301A3F9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E23-46C9-469B-BDDB-2A59FAB1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B55-78CA-4E39-A27E-BC716CF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D7E-6E14-4C22-9898-B2D0A0DF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C481-7E6E-466D-B538-C41DEA820D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0840" y="668160"/>
            <a:ext cx="1000080" cy="606600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20920" y="668160"/>
            <a:ext cx="2387520" cy="606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7000" y="668160"/>
            <a:ext cx="3409920" cy="6066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8760" y="3543480"/>
          <a:ext cx="72388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43480"/>
                    <a:ext cx="72388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0080" y="457200"/>
          <a:ext cx="7297560" cy="33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80" y="457200"/>
                    <a:ext cx="72975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-74160" y="1905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8040" y="505944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497520" y="342648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montañ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10320" y="342792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de lome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82520" y="3426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7112160" y="365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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linación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alud en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7230240" y="5571720"/>
            <a:ext cx="134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 = Tan </a:t>
            </a: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= 1/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423920" y="1143720"/>
            <a:ext cx="959760" cy="1501200"/>
            <a:chOff x="7423920" y="1143720"/>
            <a:chExt cx="959760" cy="1501200"/>
          </a:xfrm>
        </p:grpSpPr>
        <p:sp>
          <p:nvSpPr>
            <p:cNvPr id="56" name=""/>
            <p:cNvSpPr/>
            <p:nvPr/>
          </p:nvSpPr>
          <p:spPr>
            <a:xfrm flipH="1" rot="16200000">
              <a:off x="7156800" y="1692360"/>
              <a:ext cx="1219320" cy="685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7857720" y="21304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42400" y="2465280"/>
              <a:ext cx="5688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2" y="22"/>
                    <a:pt x="2" y="15"/>
                    <a:pt x="5" y="11"/>
                  </a:cubicBezTo>
                  <a:cubicBezTo>
                    <a:pt x="8" y="7"/>
                    <a:pt x="14" y="2"/>
                    <a:pt x="19" y="1"/>
                  </a:cubicBezTo>
                  <a:cubicBezTo>
                    <a:pt x="24" y="0"/>
                    <a:pt x="33" y="5"/>
                    <a:pt x="36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7634520" y="1138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8116920" y="1877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8389800" y="0"/>
          <a:ext cx="640080" cy="6858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9800" y="0"/>
                    <a:ext cx="64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617840" y="152280"/>
            <a:ext cx="49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abla 2  Clasificación topográfica en la República Mexic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840" y="3700440"/>
            <a:ext cx="69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48320" y="357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1:43:51Z</dcterms:created>
  <dc:creator>Alejandro Carrillo</dc:creator>
  <dc:description/>
  <dc:language>en-US</dc:language>
  <cp:lastModifiedBy>Monica Balsas</cp:lastModifiedBy>
  <dcterms:modified xsi:type="dcterms:W3CDTF">2003-03-19T20:37:34Z</dcterms:modified>
  <cp:revision>13</cp:revision>
  <dc:subject/>
  <dc:title>Presentación de PowerPoint</dc:title>
</cp:coreProperties>
</file>